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358-8B07-4924-800F-E04D60A6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339-7302-4906-BE91-1D6B5926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258-0610-425F-8CA9-84343768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8D3-100C-4D59-B2C1-4B0DFE14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DB53-D839-4EFA-904B-66128DBE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D8E7-9D0E-4E41-9348-2377A3F4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96FA-95D0-40B2-A7D6-6F883E7E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8B98-A4D3-4EC1-948D-6443A7EB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1CAD-D20F-418A-99C3-0476D61E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E4A8-08D0-4D01-B091-25F1A132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A39B-E48D-4860-B342-FD31A5BE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8FA3-C2B6-4510-8960-FE2FF159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007E-6DFD-40C8-A8EC-2F4C2EA6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330B-3DB0-48F3-BCD7-B24213D5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BBDA-CD3A-46AC-A74C-D523F7D9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DF75-DC45-4C64-B354-97E4DFAF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1FA0-5CF7-4861-B66E-DA56D506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AA4-8824-4B05-83C3-B11C4596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850-B1DB-467E-B0A4-2CD6DAFE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71A-296A-4D28-B571-A3C52D52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71CA-514E-42F0-BD62-42B576D9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18F-5987-4880-8671-481A982F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394-9FCE-40DB-8718-0A4AD3F3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B65B-ACEB-41F0-9AF9-50398EF3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5A8B-2E35-41D1-84E0-F859CE556F5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88C4-D371-43EF-BFCB-37C7015709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Вода – это жизнь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полнила студентка 143 группы Богданова Мария Михайлов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а рабо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уппо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бный предм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стн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щиеся 9 клас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сновополагающий вопрос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изменяется мир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5724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блемные вопро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да, как дискета, записывает нашу жизн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не кончается вода на Земл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воду называют «золотом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чебные вопро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такое вода (строение молекулы воды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уговорот воды в природ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ова роль воды в живой и в не живой природ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чему даже в лютую зиму вода в водоемах не промерзает до дна? Какое это имеет значение для живой природы? В чем опасность айсбергов для судоходств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жно ли считать природную воду чистым (индивидуальным) вещество? Какая вода называется пресной? Соленой? Рассолом? Минеральной? . В чем сущность дистилляции воды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идактические цел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общить, проанализировать и расширить знания учащихся о воде, ее роли в живой и неживой природе, в жизни челове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ширить знания об необходимости бережного отношения к водным ресурсам, роли каждого человека в решении экологических и экономических проблем гидросферы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итывать бережное отношение к природе; прививать любовь к русской природ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вать видение прекрасного во всём, что нас окруж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езультаты представления исследований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зентация: «Вода – как  дискета»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убликация: Почему вода – «жидкое золото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Этапы и сроки проведения проект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этап: 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Знакомство с научными статьями и  исследованиями по данной теме.(2 часа).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этап: 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Демонстрация самостоятельной деятельности учащихся.(1 час)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3:05:34Z</dcterms:created>
  <dc:creator>26059</dc:creator>
  <dc:description/>
  <dc:language>en-US</dc:language>
  <cp:lastModifiedBy>User</cp:lastModifiedBy>
  <dcterms:modified xsi:type="dcterms:W3CDTF">2010-06-04T09:01:03Z</dcterms:modified>
  <cp:revision>17</cp:revision>
  <dc:subject/>
  <dc:title>Вода – это жизнь!</dc:title>
</cp:coreProperties>
</file>